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10620375" cy="7127875"/>
  <p:notesSz cx="6796088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35A09-B4D3-4EBE-B345-8B5F20793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29720" y="379440"/>
            <a:ext cx="9160200" cy="13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45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29720" y="1896840"/>
            <a:ext cx="916020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29720" y="4259160"/>
            <a:ext cx="916020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154A3-290C-4CDC-9FA4-C95527F04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29720" y="379440"/>
            <a:ext cx="9160200" cy="13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45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29720" y="1896840"/>
            <a:ext cx="44701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23760" y="1896840"/>
            <a:ext cx="44701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29720" y="4259160"/>
            <a:ext cx="44701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23760" y="4259160"/>
            <a:ext cx="44701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978FB-3C8A-4A49-8E5D-4B136FC60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29720" y="379440"/>
            <a:ext cx="9160200" cy="13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45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29720" y="1896840"/>
            <a:ext cx="294948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27160" y="1896840"/>
            <a:ext cx="294948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924240" y="1896840"/>
            <a:ext cx="294948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29720" y="4259160"/>
            <a:ext cx="294948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27160" y="4259160"/>
            <a:ext cx="294948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924240" y="4259160"/>
            <a:ext cx="294948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25D29-9EB2-4CA7-B6DD-EB0269BDF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FEF9C-7EA1-4675-BFB7-C14348F93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29720" y="379440"/>
            <a:ext cx="9160200" cy="13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45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729720" y="1896840"/>
            <a:ext cx="916020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37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D711E-F5BE-4994-839E-9D4BFA131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29720" y="379440"/>
            <a:ext cx="9160200" cy="13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45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29720" y="1896840"/>
            <a:ext cx="916020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D6A5A-2346-4819-A458-84CB83A17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29720" y="379440"/>
            <a:ext cx="9160200" cy="13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45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29720" y="1896840"/>
            <a:ext cx="447012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423760" y="1896840"/>
            <a:ext cx="447012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C07AC-3CD8-4D49-A404-644E34884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29720" y="379440"/>
            <a:ext cx="9160200" cy="13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45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DA472-2140-4BCB-85CE-C48015D4D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729720" y="379440"/>
            <a:ext cx="9160200" cy="63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37"/>
              </a:spcBef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9FF32-A2FD-413B-9DF3-93714A569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29720" y="379440"/>
            <a:ext cx="9160200" cy="13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45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29720" y="1896840"/>
            <a:ext cx="44701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423760" y="1896840"/>
            <a:ext cx="447012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729720" y="4259160"/>
            <a:ext cx="44701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2D9E6-1F8C-473A-92F9-7B42E9563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29720" y="379440"/>
            <a:ext cx="9160200" cy="13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45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29720" y="1896840"/>
            <a:ext cx="916020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37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B189E-665E-4A52-87A0-BB2EBC9E2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29720" y="379440"/>
            <a:ext cx="9160200" cy="13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45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29720" y="1896840"/>
            <a:ext cx="447012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423760" y="1896840"/>
            <a:ext cx="44701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423760" y="4259160"/>
            <a:ext cx="44701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8C533-17D7-4181-82B3-B6E6764F3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29720" y="379440"/>
            <a:ext cx="9160200" cy="13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45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29720" y="1896840"/>
            <a:ext cx="44701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423760" y="1896840"/>
            <a:ext cx="44701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29720" y="4259160"/>
            <a:ext cx="916020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F473E-6E51-43BD-A524-D0C0698BF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29720" y="379440"/>
            <a:ext cx="9160200" cy="13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45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29720" y="1896840"/>
            <a:ext cx="916020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29720" y="4259160"/>
            <a:ext cx="916020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82889-3D79-43A4-8C84-394F0167B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29720" y="379440"/>
            <a:ext cx="9160200" cy="13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45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29720" y="1896840"/>
            <a:ext cx="44701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423760" y="1896840"/>
            <a:ext cx="44701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29720" y="4259160"/>
            <a:ext cx="44701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423760" y="4259160"/>
            <a:ext cx="44701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39BB5-F23A-4AA0-85D8-3FF5D0BEE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29720" y="379440"/>
            <a:ext cx="9160200" cy="13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45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29720" y="1896840"/>
            <a:ext cx="294948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27160" y="1896840"/>
            <a:ext cx="294948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924240" y="1896840"/>
            <a:ext cx="294948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729720" y="4259160"/>
            <a:ext cx="294948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827160" y="4259160"/>
            <a:ext cx="294948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924240" y="4259160"/>
            <a:ext cx="294948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41AF0-0189-4BE7-94B3-BC415BC69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29720" y="379440"/>
            <a:ext cx="9160200" cy="13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45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29720" y="1896840"/>
            <a:ext cx="916020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3C68A-F873-42AA-ABC1-442131267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29720" y="379440"/>
            <a:ext cx="9160200" cy="13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45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29720" y="1896840"/>
            <a:ext cx="447012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23760" y="1896840"/>
            <a:ext cx="447012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F06C7-D8E6-431C-A45C-630525DB5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29720" y="379440"/>
            <a:ext cx="9160200" cy="13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45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8E7C4-BA73-40D5-BF63-B288179CA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29720" y="379440"/>
            <a:ext cx="9160200" cy="63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37"/>
              </a:spcBef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6F0CE-D119-405A-B01B-1D4EE3FCC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29720" y="379440"/>
            <a:ext cx="9160200" cy="13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45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29720" y="1896840"/>
            <a:ext cx="44701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23760" y="1896840"/>
            <a:ext cx="447012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29720" y="4259160"/>
            <a:ext cx="44701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6E2FE-76D6-4F44-980B-309FF1972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29720" y="379440"/>
            <a:ext cx="9160200" cy="13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45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29720" y="1896840"/>
            <a:ext cx="447012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23760" y="1896840"/>
            <a:ext cx="44701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23760" y="4259160"/>
            <a:ext cx="44701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8A455-907B-4863-ACD4-A235F1E6C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29720" y="379440"/>
            <a:ext cx="9160200" cy="13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45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29720" y="1896840"/>
            <a:ext cx="44701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23760" y="1896840"/>
            <a:ext cx="44701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29720" y="4259160"/>
            <a:ext cx="916020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2A584-50E2-4298-82CA-8B817AEF0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29720" y="379440"/>
            <a:ext cx="9160200" cy="13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29720" y="1896840"/>
            <a:ext cx="916020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6520" indent="-236520">
              <a:lnSpc>
                <a:spcPct val="90000"/>
              </a:lnSpc>
              <a:spcBef>
                <a:spcPts val="1037"/>
              </a:spcBef>
              <a:buClr>
                <a:srgbClr val="000000"/>
              </a:buClr>
              <a:buFont typeface="Arial"/>
              <a:buChar char="•"/>
              <a:tabLst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712800" indent="-236520">
              <a:lnSpc>
                <a:spcPct val="90000"/>
              </a:lnSpc>
              <a:spcBef>
                <a:spcPts val="1037"/>
              </a:spcBef>
              <a:buClr>
                <a:srgbClr val="000000"/>
              </a:buClr>
              <a:buFont typeface="Arial"/>
              <a:buChar char="•"/>
              <a:tabLst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1187280" indent="-236520">
              <a:lnSpc>
                <a:spcPct val="90000"/>
              </a:lnSpc>
              <a:spcBef>
                <a:spcPts val="1037"/>
              </a:spcBef>
              <a:buClr>
                <a:srgbClr val="000000"/>
              </a:buClr>
              <a:buFont typeface="Arial"/>
              <a:buChar char="•"/>
              <a:tabLst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662120" indent="-236520">
              <a:lnSpc>
                <a:spcPct val="90000"/>
              </a:lnSpc>
              <a:spcBef>
                <a:spcPts val="1037"/>
              </a:spcBef>
              <a:buClr>
                <a:srgbClr val="000000"/>
              </a:buClr>
              <a:buFont typeface="Arial"/>
              <a:buChar char="•"/>
              <a:tabLst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2138400" indent="-236520">
              <a:lnSpc>
                <a:spcPct val="90000"/>
              </a:lnSpc>
              <a:spcBef>
                <a:spcPts val="1037"/>
              </a:spcBef>
              <a:buClr>
                <a:srgbClr val="000000"/>
              </a:buClr>
              <a:buFont typeface="Arial"/>
              <a:buChar char="•"/>
              <a:tabLst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2138400" indent="-236520">
              <a:lnSpc>
                <a:spcPct val="90000"/>
              </a:lnSpc>
              <a:spcBef>
                <a:spcPts val="1037"/>
              </a:spcBef>
              <a:buClr>
                <a:srgbClr val="000000"/>
              </a:buClr>
              <a:buFont typeface="Arial"/>
              <a:buChar char="•"/>
              <a:tabLst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2138400" indent="-236520">
              <a:lnSpc>
                <a:spcPct val="90000"/>
              </a:lnSpc>
              <a:spcBef>
                <a:spcPts val="1037"/>
              </a:spcBef>
              <a:buClr>
                <a:srgbClr val="000000"/>
              </a:buClr>
              <a:buFont typeface="Arial"/>
              <a:buChar char="•"/>
              <a:tabLst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29720" y="6607080"/>
            <a:ext cx="2389320" cy="3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17560" y="6607080"/>
            <a:ext cx="3584520" cy="3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500600" y="6607080"/>
            <a:ext cx="2389320" cy="3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807D9-E3C2-4CAF-9C63-F7D63D21D203}" type="slidenum">
              <a:rPr b="0" lang="es-UY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29720" y="379440"/>
            <a:ext cx="9160200" cy="13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29720" y="1896840"/>
            <a:ext cx="916020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6520" indent="-236520">
              <a:lnSpc>
                <a:spcPct val="90000"/>
              </a:lnSpc>
              <a:spcBef>
                <a:spcPts val="1037"/>
              </a:spcBef>
              <a:buClr>
                <a:srgbClr val="000000"/>
              </a:buClr>
              <a:buFont typeface="Arial"/>
              <a:buChar char="•"/>
              <a:tabLst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712800" indent="-236520">
              <a:lnSpc>
                <a:spcPct val="90000"/>
              </a:lnSpc>
              <a:spcBef>
                <a:spcPts val="1037"/>
              </a:spcBef>
              <a:buClr>
                <a:srgbClr val="000000"/>
              </a:buClr>
              <a:buFont typeface="Arial"/>
              <a:buChar char="•"/>
              <a:tabLst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1187280" indent="-236520">
              <a:lnSpc>
                <a:spcPct val="90000"/>
              </a:lnSpc>
              <a:spcBef>
                <a:spcPts val="1037"/>
              </a:spcBef>
              <a:buClr>
                <a:srgbClr val="000000"/>
              </a:buClr>
              <a:buFont typeface="Arial"/>
              <a:buChar char="•"/>
              <a:tabLst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662120" indent="-236520">
              <a:lnSpc>
                <a:spcPct val="90000"/>
              </a:lnSpc>
              <a:spcBef>
                <a:spcPts val="1037"/>
              </a:spcBef>
              <a:buClr>
                <a:srgbClr val="000000"/>
              </a:buClr>
              <a:buFont typeface="Arial"/>
              <a:buChar char="•"/>
              <a:tabLst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2138400" indent="-236520">
              <a:lnSpc>
                <a:spcPct val="90000"/>
              </a:lnSpc>
              <a:spcBef>
                <a:spcPts val="1037"/>
              </a:spcBef>
              <a:buClr>
                <a:srgbClr val="000000"/>
              </a:buClr>
              <a:buFont typeface="Arial"/>
              <a:buChar char="•"/>
              <a:tabLst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2138400" indent="-236520">
              <a:lnSpc>
                <a:spcPct val="90000"/>
              </a:lnSpc>
              <a:spcBef>
                <a:spcPts val="1037"/>
              </a:spcBef>
              <a:buClr>
                <a:srgbClr val="000000"/>
              </a:buClr>
              <a:buFont typeface="Arial"/>
              <a:buChar char="•"/>
              <a:tabLst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2138400" indent="-236520">
              <a:lnSpc>
                <a:spcPct val="90000"/>
              </a:lnSpc>
              <a:spcBef>
                <a:spcPts val="1037"/>
              </a:spcBef>
              <a:buClr>
                <a:srgbClr val="000000"/>
              </a:buClr>
              <a:buFont typeface="Arial"/>
              <a:buChar char="•"/>
              <a:tabLst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729720" y="6607080"/>
            <a:ext cx="2389320" cy="3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517560" y="6607080"/>
            <a:ext cx="3584520" cy="3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500600" y="6607080"/>
            <a:ext cx="2389320" cy="3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E0214-B29B-4EB0-ACEF-3E6252D21A02}" type="slidenum">
              <a:rPr b="0" lang="es-UY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CuadroTexto 8"/>
          <p:cNvSpPr/>
          <p:nvPr/>
        </p:nvSpPr>
        <p:spPr>
          <a:xfrm>
            <a:off x="1623960" y="3438360"/>
            <a:ext cx="66168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2000" spc="-1" strike="noStrike">
                <a:solidFill>
                  <a:srgbClr val="2f5597"/>
                </a:solidFill>
                <a:latin typeface="Century Gothic"/>
                <a:ea typeface="Aharoni"/>
              </a:rPr>
              <a:t>Dirección Nacional de Artesanías, Micro, Pequeñas y Medianas Empresas (DINAPYM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" descr="logo pie correo-01_350"/>
          <p:cNvPicPr/>
          <p:nvPr/>
        </p:nvPicPr>
        <p:blipFill>
          <a:blip r:embed="rId1"/>
          <a:stretch/>
        </p:blipFill>
        <p:spPr>
          <a:xfrm>
            <a:off x="382680" y="1077840"/>
            <a:ext cx="4437000" cy="1501920"/>
          </a:xfrm>
          <a:prstGeom prst="rect">
            <a:avLst/>
          </a:prstGeom>
          <a:ln w="0">
            <a:noFill/>
          </a:ln>
        </p:spPr>
      </p:pic>
      <p:sp>
        <p:nvSpPr>
          <p:cNvPr id="84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10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1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1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11 Imagen" descr="Uruguay XXI | Investor Guide"/>
          <p:cNvPicPr/>
          <p:nvPr/>
        </p:nvPicPr>
        <p:blipFill>
          <a:blip r:embed="rId2"/>
          <a:stretch/>
        </p:blipFill>
        <p:spPr>
          <a:xfrm>
            <a:off x="5262480" y="1295280"/>
            <a:ext cx="4191120" cy="1152720"/>
          </a:xfrm>
          <a:prstGeom prst="rect">
            <a:avLst/>
          </a:prstGeom>
          <a:ln w="0">
            <a:noFill/>
          </a:ln>
        </p:spPr>
      </p:pic>
      <p:sp>
        <p:nvSpPr>
          <p:cNvPr id="89" name="12 CuadroTexto"/>
          <p:cNvSpPr/>
          <p:nvPr/>
        </p:nvSpPr>
        <p:spPr>
          <a:xfrm>
            <a:off x="7627680" y="5608800"/>
            <a:ext cx="191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800" spc="-1" strike="noStrike">
                <a:solidFill>
                  <a:srgbClr val="000000"/>
                </a:solidFill>
                <a:latin typeface="Arial"/>
              </a:rPr>
              <a:t>Julio, 16 de 20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3"/>
          <p:cNvSpPr/>
          <p:nvPr/>
        </p:nvSpPr>
        <p:spPr>
          <a:xfrm>
            <a:off x="2367000" y="1747800"/>
            <a:ext cx="7049880" cy="32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70c0"/>
                </a:solidFill>
                <a:latin typeface="Calibri"/>
              </a:rPr>
              <a:t>andrea.boschiero@miem.gub.u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70c0"/>
                </a:solidFill>
                <a:latin typeface="Calibri"/>
              </a:rPr>
              <a:t>2840 1234 int 31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CuadroTexto 8"/>
          <p:cNvSpPr/>
          <p:nvPr/>
        </p:nvSpPr>
        <p:spPr>
          <a:xfrm>
            <a:off x="422280" y="6262560"/>
            <a:ext cx="5254560" cy="5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600" spc="-1" strike="noStrike">
                <a:solidFill>
                  <a:srgbClr val="2f5597"/>
                </a:solidFill>
                <a:latin typeface="Century Gothic"/>
                <a:ea typeface="Aharoni"/>
              </a:rPr>
              <a:t>Dirección Nacional de Artesanías, Micro, Pequeñas y Medianas Empresas (DINAPYM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5 CuadroTexto"/>
          <p:cNvSpPr/>
          <p:nvPr/>
        </p:nvSpPr>
        <p:spPr>
          <a:xfrm>
            <a:off x="7608960" y="465120"/>
            <a:ext cx="194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3200" spc="-1" strike="noStrike">
                <a:solidFill>
                  <a:srgbClr val="2e75b6"/>
                </a:solidFill>
                <a:latin typeface="Arial"/>
              </a:rPr>
              <a:t>Contac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7" descr="C:\Users\Andrea Boschiero\AppData\Local\Microsoft\Windows\INetCache\IE\ODZW0R3I\icon-937080_640[1].png"/>
          <p:cNvPicPr/>
          <p:nvPr/>
        </p:nvPicPr>
        <p:blipFill>
          <a:blip r:embed="rId1"/>
          <a:stretch/>
        </p:blipFill>
        <p:spPr>
          <a:xfrm>
            <a:off x="1830240" y="3021120"/>
            <a:ext cx="1125720" cy="1125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8" descr="C:\Users\Andrea Boschiero\AppData\Local\Microsoft\Windows\INetCache\IE\KI1M4CLD\ist2_5774175-open-email[1].jpg"/>
          <p:cNvPicPr/>
          <p:nvPr/>
        </p:nvPicPr>
        <p:blipFill>
          <a:blip r:embed="rId2"/>
          <a:stretch/>
        </p:blipFill>
        <p:spPr>
          <a:xfrm>
            <a:off x="1538280" y="1136520"/>
            <a:ext cx="1689120" cy="16876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8" descr="logo pie correo-01_350"/>
          <p:cNvPicPr/>
          <p:nvPr/>
        </p:nvPicPr>
        <p:blipFill>
          <a:blip r:embed="rId3"/>
          <a:stretch/>
        </p:blipFill>
        <p:spPr>
          <a:xfrm>
            <a:off x="0" y="0"/>
            <a:ext cx="2562120" cy="8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3"/>
          <p:cNvSpPr/>
          <p:nvPr/>
        </p:nvSpPr>
        <p:spPr>
          <a:xfrm>
            <a:off x="2436840" y="2343240"/>
            <a:ext cx="63403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0070c0"/>
                </a:solidFill>
                <a:latin typeface="Calibri"/>
              </a:rPr>
              <a:t>Muchas gracias!!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3828960" y="5427720"/>
            <a:ext cx="6340680" cy="10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70c0"/>
                </a:solidFill>
                <a:latin typeface="Calibri"/>
              </a:rPr>
              <a:t>Andrea Boschie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70c0"/>
                </a:solidFill>
                <a:latin typeface="Calibri"/>
              </a:rPr>
              <a:t>andrea.boschiero@miem.gub.u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70c0"/>
                </a:solidFill>
                <a:latin typeface="Calibri"/>
              </a:rPr>
              <a:t>Dinapy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CuadroTexto 8"/>
          <p:cNvSpPr/>
          <p:nvPr/>
        </p:nvSpPr>
        <p:spPr>
          <a:xfrm>
            <a:off x="352440" y="6262560"/>
            <a:ext cx="5254560" cy="5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600" spc="-1" strike="noStrike">
                <a:solidFill>
                  <a:srgbClr val="2f5597"/>
                </a:solidFill>
                <a:latin typeface="Century Gothic"/>
                <a:ea typeface="Aharoni"/>
              </a:rPr>
              <a:t>Dirección Nacional de Artesanías, Micro, Pequeñas y Medianas Empresas (DINAPYM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6" descr="logo pie correo-01_350"/>
          <p:cNvPicPr/>
          <p:nvPr/>
        </p:nvPicPr>
        <p:blipFill>
          <a:blip r:embed="rId1"/>
          <a:stretch/>
        </p:blipFill>
        <p:spPr>
          <a:xfrm>
            <a:off x="0" y="0"/>
            <a:ext cx="2562120" cy="8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2051"/>
          <p:cNvSpPr/>
          <p:nvPr/>
        </p:nvSpPr>
        <p:spPr>
          <a:xfrm>
            <a:off x="993600" y="2158920"/>
            <a:ext cx="884412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1f4e79"/>
                </a:solidFill>
                <a:latin typeface="Calibri"/>
              </a:rPr>
              <a:t>“</a:t>
            </a:r>
            <a:r>
              <a:rPr b="1" lang="es-ES" sz="4400" spc="-1" strike="noStrike">
                <a:solidFill>
                  <a:srgbClr val="1f4e79"/>
                </a:solidFill>
                <a:latin typeface="Calibri"/>
              </a:rPr>
              <a:t>Plataforma Integral de Apoyo al Desarrollo Empresarial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1f4e79"/>
                </a:solidFill>
                <a:latin typeface="Calibri"/>
              </a:rPr>
              <a:t>PIADE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CuadroTexto 8"/>
          <p:cNvSpPr/>
          <p:nvPr/>
        </p:nvSpPr>
        <p:spPr>
          <a:xfrm>
            <a:off x="598320" y="6330960"/>
            <a:ext cx="5254920" cy="5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600" spc="-1" strike="noStrike">
                <a:solidFill>
                  <a:srgbClr val="2f5597"/>
                </a:solidFill>
                <a:latin typeface="Century Gothic"/>
                <a:ea typeface="Aharoni"/>
              </a:rPr>
              <a:t>Dirección Nacional de Artesanías, Micro, Pequeñas y Medianas Empresas (DINAPYM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5" descr="logo pie correo-01_350"/>
          <p:cNvPicPr/>
          <p:nvPr/>
        </p:nvPicPr>
        <p:blipFill>
          <a:blip r:embed="rId1"/>
          <a:stretch/>
        </p:blipFill>
        <p:spPr>
          <a:xfrm>
            <a:off x="0" y="0"/>
            <a:ext cx="2562120" cy="8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2051"/>
          <p:cNvSpPr/>
          <p:nvPr/>
        </p:nvSpPr>
        <p:spPr>
          <a:xfrm>
            <a:off x="816120" y="1258920"/>
            <a:ext cx="88437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4400" spc="-1" strike="noStrike">
                <a:solidFill>
                  <a:srgbClr val="1f4e79"/>
                </a:solidFill>
                <a:latin typeface="Calibri"/>
              </a:rPr>
              <a:t>Internacionalizar la empresa es una definición estratégica de la Direc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CuadroTexto 8"/>
          <p:cNvSpPr/>
          <p:nvPr/>
        </p:nvSpPr>
        <p:spPr>
          <a:xfrm>
            <a:off x="598320" y="6330960"/>
            <a:ext cx="5254920" cy="5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600" spc="-1" strike="noStrike">
                <a:solidFill>
                  <a:srgbClr val="2f5597"/>
                </a:solidFill>
                <a:latin typeface="Century Gothic"/>
                <a:ea typeface="Aharoni"/>
              </a:rPr>
              <a:t>Dirección Nacional de Artesanías, Micro, Pequeñas y Medianas Empresas (DINAPYM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" descr="logo pie correo-01_350"/>
          <p:cNvPicPr/>
          <p:nvPr/>
        </p:nvPicPr>
        <p:blipFill>
          <a:blip r:embed="rId1"/>
          <a:stretch/>
        </p:blipFill>
        <p:spPr>
          <a:xfrm>
            <a:off x="0" y="0"/>
            <a:ext cx="2562120" cy="866880"/>
          </a:xfrm>
          <a:prstGeom prst="rect">
            <a:avLst/>
          </a:prstGeom>
          <a:ln w="0">
            <a:noFill/>
          </a:ln>
        </p:spPr>
      </p:pic>
      <p:pic>
        <p:nvPicPr>
          <p:cNvPr id="96" name="4 Imagen" descr="Internacionalización | Pontificia Universidad Javeriana"/>
          <p:cNvPicPr/>
          <p:nvPr/>
        </p:nvPicPr>
        <p:blipFill>
          <a:blip r:embed="rId2"/>
          <a:srcRect l="0" t="0" r="0" b="34569"/>
          <a:stretch/>
        </p:blipFill>
        <p:spPr>
          <a:xfrm>
            <a:off x="3589200" y="3530520"/>
            <a:ext cx="2934000" cy="214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CuadroTexto 8"/>
          <p:cNvSpPr/>
          <p:nvPr/>
        </p:nvSpPr>
        <p:spPr>
          <a:xfrm>
            <a:off x="598320" y="6330960"/>
            <a:ext cx="5254920" cy="5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600" spc="-1" strike="noStrike">
                <a:solidFill>
                  <a:srgbClr val="2f5597"/>
                </a:solidFill>
                <a:latin typeface="Century Gothic"/>
                <a:ea typeface="Aharoni"/>
              </a:rPr>
              <a:t>Dirección Nacional de Artesanías, Micro, Pequeñas y Medianas Empresas (DINAPYM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5" descr="logo pie correo-01_350"/>
          <p:cNvPicPr/>
          <p:nvPr/>
        </p:nvPicPr>
        <p:blipFill>
          <a:blip r:embed="rId1"/>
          <a:stretch/>
        </p:blipFill>
        <p:spPr>
          <a:xfrm>
            <a:off x="0" y="0"/>
            <a:ext cx="2562120" cy="866880"/>
          </a:xfrm>
          <a:prstGeom prst="rect">
            <a:avLst/>
          </a:prstGeom>
          <a:ln w="0">
            <a:noFill/>
          </a:ln>
        </p:spPr>
      </p:pic>
      <p:pic>
        <p:nvPicPr>
          <p:cNvPr id="99" name="5 Marcador de contenido" descr=""/>
          <p:cNvPicPr/>
          <p:nvPr/>
        </p:nvPicPr>
        <p:blipFill>
          <a:blip r:embed="rId2"/>
          <a:stretch/>
        </p:blipFill>
        <p:spPr>
          <a:xfrm>
            <a:off x="5943600" y="1743120"/>
            <a:ext cx="4175280" cy="4084560"/>
          </a:xfrm>
          <a:prstGeom prst="rect">
            <a:avLst/>
          </a:prstGeom>
          <a:ln w="0">
            <a:noFill/>
          </a:ln>
        </p:spPr>
      </p:pic>
      <p:sp>
        <p:nvSpPr>
          <p:cNvPr id="100" name="3 Marcador de contenido"/>
          <p:cNvSpPr/>
          <p:nvPr/>
        </p:nvSpPr>
        <p:spPr>
          <a:xfrm>
            <a:off x="1378080" y="2644920"/>
            <a:ext cx="3263760" cy="25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Para ello es necesario definir el norte y planificar el recorrid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2"/>
          <p:cNvSpPr/>
          <p:nvPr/>
        </p:nvSpPr>
        <p:spPr>
          <a:xfrm>
            <a:off x="1828800" y="1044720"/>
            <a:ext cx="7056360" cy="7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1f4e79"/>
                </a:solidFill>
                <a:latin typeface="Calibri"/>
              </a:rPr>
              <a:t>Requiere de planificar estratégicam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CuadroTexto 8"/>
          <p:cNvSpPr/>
          <p:nvPr/>
        </p:nvSpPr>
        <p:spPr>
          <a:xfrm>
            <a:off x="352440" y="6262560"/>
            <a:ext cx="5254560" cy="5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600" spc="-1" strike="noStrike">
                <a:solidFill>
                  <a:srgbClr val="2f5597"/>
                </a:solidFill>
                <a:latin typeface="Century Gothic"/>
                <a:ea typeface="Aharoni"/>
              </a:rPr>
              <a:t>Dirección Nacional de Artesanías, Micro, Pequeñas y Medianas Empresas (DINAPYM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"/>
          <p:cNvSpPr/>
          <p:nvPr/>
        </p:nvSpPr>
        <p:spPr>
          <a:xfrm>
            <a:off x="538200" y="2843640"/>
            <a:ext cx="43974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b3838"/>
                </a:solidFill>
                <a:latin typeface="Arial"/>
              </a:rPr>
              <a:t>Planificación Estratégic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b3838"/>
                </a:solidFill>
                <a:latin typeface="Arial"/>
              </a:rPr>
              <a:t>Marketing y Comercializ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b3838"/>
                </a:solidFill>
                <a:latin typeface="Arial"/>
              </a:rPr>
              <a:t>Produc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b3838"/>
                </a:solidFill>
                <a:latin typeface="Arial"/>
              </a:rPr>
              <a:t>Sistemas de inform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b3838"/>
                </a:solidFill>
                <a:latin typeface="Arial"/>
              </a:rPr>
              <a:t>Finanz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b3838"/>
                </a:solidFill>
                <a:latin typeface="Arial"/>
                <a:ea typeface="Calibri"/>
              </a:rPr>
              <a:t>Gestión Logíst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b3838"/>
                </a:solidFill>
                <a:latin typeface="Arial"/>
              </a:rPr>
              <a:t>Calidad de Productos y/o servici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b3838"/>
                </a:solidFill>
                <a:latin typeface="Arial"/>
              </a:rPr>
              <a:t>Recursos Human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b3838"/>
                </a:solidFill>
                <a:latin typeface="Arial"/>
              </a:rPr>
              <a:t>Internacionaliz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b3838"/>
                </a:solidFill>
                <a:latin typeface="Arial"/>
              </a:rPr>
              <a:t>Otr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6 CuadroTexto"/>
          <p:cNvSpPr/>
          <p:nvPr/>
        </p:nvSpPr>
        <p:spPr>
          <a:xfrm>
            <a:off x="313560" y="1101600"/>
            <a:ext cx="9818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2000" spc="-1" strike="noStrike">
                <a:solidFill>
                  <a:srgbClr val="2e75b6"/>
                </a:solidFill>
                <a:latin typeface="Arial"/>
              </a:rPr>
              <a:t>Con el Programa Piade detectamos las oportunidades de mejora de la empres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2000" spc="-1" strike="noStrike">
                <a:solidFill>
                  <a:srgbClr val="2e75b6"/>
                </a:solidFill>
                <a:latin typeface="Arial"/>
              </a:rPr>
              <a:t>y te apoyamos subsidiando especialistas que implementen planes de trabaj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2000" spc="-1" strike="noStrike">
                <a:solidFill>
                  <a:srgbClr val="2e75b6"/>
                </a:solidFill>
                <a:latin typeface="Arial"/>
              </a:rPr>
              <a:t>en cualquier área de la empresa que s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2000" spc="-1" strike="noStrike">
                <a:solidFill>
                  <a:srgbClr val="2e75b6"/>
                </a:solidFill>
                <a:latin typeface="Arial"/>
              </a:rPr>
              <a:t>necesaria para el cumplimiento de los objetivos estratégic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6" descr="logo pie correo-01_350"/>
          <p:cNvPicPr/>
          <p:nvPr/>
        </p:nvPicPr>
        <p:blipFill>
          <a:blip r:embed="rId1"/>
          <a:stretch/>
        </p:blipFill>
        <p:spPr>
          <a:xfrm>
            <a:off x="0" y="0"/>
            <a:ext cx="2562120" cy="8668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8" descr="Cómo empezar tu planificación estratégica de comunicación - ZipZap ..."/>
          <p:cNvPicPr/>
          <p:nvPr/>
        </p:nvPicPr>
        <p:blipFill>
          <a:blip r:embed="rId2"/>
          <a:stretch/>
        </p:blipFill>
        <p:spPr>
          <a:xfrm>
            <a:off x="5573880" y="2759040"/>
            <a:ext cx="4470120" cy="333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CuadroTexto 8"/>
          <p:cNvSpPr/>
          <p:nvPr/>
        </p:nvSpPr>
        <p:spPr>
          <a:xfrm>
            <a:off x="598320" y="6330960"/>
            <a:ext cx="5254920" cy="5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600" spc="-1" strike="noStrike">
                <a:solidFill>
                  <a:srgbClr val="2f5597"/>
                </a:solidFill>
                <a:latin typeface="Century Gothic"/>
                <a:ea typeface="Aharoni"/>
              </a:rPr>
              <a:t>Dirección Nacional de Artesanías, Micro, Pequeñas y Medianas Empresas (DINAPYM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4 CuadroTexto"/>
          <p:cNvSpPr/>
          <p:nvPr/>
        </p:nvSpPr>
        <p:spPr>
          <a:xfrm>
            <a:off x="7161120" y="304920"/>
            <a:ext cx="273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3200" spc="-1" strike="noStrike">
                <a:solidFill>
                  <a:srgbClr val="0070c0"/>
                </a:solidFill>
                <a:latin typeface="Arial"/>
              </a:rPr>
              <a:t>Beneficiar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1 Rectángulo"/>
          <p:cNvSpPr/>
          <p:nvPr/>
        </p:nvSpPr>
        <p:spPr>
          <a:xfrm>
            <a:off x="1252440" y="1762200"/>
            <a:ext cx="771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Micro, pequeñas y medianas empresas a nivel local de acuerdo a lo establecido en el decreto 504/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1297080" y="2932200"/>
          <a:ext cx="8076960" cy="2581200"/>
        </p:xfrm>
        <a:graphic>
          <a:graphicData uri="http://schemas.openxmlformats.org/drawingml/2006/table">
            <a:tbl>
              <a:tblPr/>
              <a:tblGrid>
                <a:gridCol w="2692440"/>
                <a:gridCol w="2255760"/>
                <a:gridCol w="3128760"/>
              </a:tblGrid>
              <a:tr h="6015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UY" sz="2200" spc="-1" strike="noStrike">
                          <a:solidFill>
                            <a:srgbClr val="ffffff"/>
                          </a:solidFill>
                          <a:latin typeface="Calibri"/>
                          <a:ea typeface="MS PGothic"/>
                        </a:rPr>
                        <a:t>Tipo de empres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4549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UY" sz="2200" spc="-1" strike="noStrike">
                          <a:solidFill>
                            <a:srgbClr val="ffffff"/>
                          </a:solidFill>
                          <a:latin typeface="Calibri"/>
                          <a:ea typeface="MS PGothic"/>
                        </a:rPr>
                        <a:t>Personal tota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4549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UY" sz="2200" spc="-1" strike="noStrike">
                          <a:solidFill>
                            <a:srgbClr val="ffffff"/>
                          </a:solidFill>
                          <a:latin typeface="Calibri"/>
                          <a:ea typeface="MS PGothic"/>
                        </a:rPr>
                        <a:t>Ventas anuales en UI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4549d"/>
                    </a:solidFill>
                  </a:tcPr>
                </a:tc>
              </a:tr>
              <a:tr h="5763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UY" sz="2000" spc="-1" strike="noStrike">
                          <a:solidFill>
                            <a:srgbClr val="000000"/>
                          </a:solidFill>
                          <a:latin typeface="Calibri"/>
                          <a:ea typeface="MS PGothic"/>
                        </a:rPr>
                        <a:t>Micr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c8e3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UY" sz="2000" spc="-1" strike="noStrike">
                          <a:solidFill>
                            <a:srgbClr val="000000"/>
                          </a:solidFill>
                          <a:latin typeface="Calibri"/>
                          <a:ea typeface="MS PGothic"/>
                        </a:rPr>
                        <a:t>1 – 4 person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c8e3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UY" sz="2000" spc="-1" strike="noStrike">
                          <a:solidFill>
                            <a:srgbClr val="000000"/>
                          </a:solidFill>
                          <a:latin typeface="Calibri"/>
                          <a:ea typeface="MS PGothic"/>
                        </a:rPr>
                        <a:t>  </a:t>
                      </a:r>
                      <a:r>
                        <a:rPr b="0" lang="es-UY" sz="2000" spc="-1" strike="noStrike">
                          <a:solidFill>
                            <a:srgbClr val="000000"/>
                          </a:solidFill>
                          <a:latin typeface="Calibri"/>
                          <a:ea typeface="MS PGothic"/>
                        </a:rPr>
                        <a:t>2.000.000 U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c8e3"/>
                    </a:solidFill>
                  </a:tcPr>
                </a:tc>
              </a:tr>
              <a:tr h="7016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UY" sz="2000" spc="-1" strike="noStrike">
                          <a:solidFill>
                            <a:srgbClr val="000000"/>
                          </a:solidFill>
                          <a:latin typeface="Calibri"/>
                          <a:ea typeface="MS PGothic"/>
                        </a:rPr>
                        <a:t>Pequeñ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edc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UY" sz="2000" spc="-1" strike="noStrike">
                          <a:solidFill>
                            <a:srgbClr val="000000"/>
                          </a:solidFill>
                          <a:latin typeface="Calibri"/>
                          <a:ea typeface="MS PGothic"/>
                        </a:rPr>
                        <a:t>5 – 19 person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edc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UY" sz="2000" spc="-1" strike="noStrike">
                          <a:solidFill>
                            <a:srgbClr val="000000"/>
                          </a:solidFill>
                          <a:latin typeface="Calibri"/>
                          <a:ea typeface="MS PGothic"/>
                        </a:rPr>
                        <a:t>10.000.000 U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edcea"/>
                    </a:solidFill>
                  </a:tcPr>
                </a:tc>
              </a:tr>
              <a:tr h="7016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UY" sz="2000" spc="-1" strike="noStrike">
                          <a:solidFill>
                            <a:srgbClr val="000000"/>
                          </a:solidFill>
                          <a:latin typeface="Calibri"/>
                          <a:ea typeface="MS PGothic"/>
                        </a:rPr>
                        <a:t>Media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c8e3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UY" sz="2000" spc="-1" strike="noStrike">
                          <a:solidFill>
                            <a:srgbClr val="000000"/>
                          </a:solidFill>
                          <a:latin typeface="Calibri"/>
                          <a:ea typeface="MS PGothic"/>
                        </a:rPr>
                        <a:t>20 – 99 person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c8e3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UY" sz="2000" spc="-1" strike="noStrike">
                          <a:solidFill>
                            <a:srgbClr val="000000"/>
                          </a:solidFill>
                          <a:latin typeface="Calibri"/>
                          <a:ea typeface="MS PGothic"/>
                        </a:rPr>
                        <a:t>75.000.000 U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c8e3"/>
                    </a:solidFill>
                  </a:tcPr>
                </a:tc>
              </a:tr>
            </a:tbl>
          </a:graphicData>
        </a:graphic>
      </p:graphicFrame>
      <p:pic>
        <p:nvPicPr>
          <p:cNvPr id="111" name="Picture 28" descr="logo pie correo-01_350"/>
          <p:cNvPicPr/>
          <p:nvPr/>
        </p:nvPicPr>
        <p:blipFill>
          <a:blip r:embed="rId1"/>
          <a:stretch/>
        </p:blipFill>
        <p:spPr>
          <a:xfrm>
            <a:off x="0" y="0"/>
            <a:ext cx="2562120" cy="8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CuadroTexto 8"/>
          <p:cNvSpPr/>
          <p:nvPr/>
        </p:nvSpPr>
        <p:spPr>
          <a:xfrm>
            <a:off x="598320" y="6330960"/>
            <a:ext cx="5254920" cy="5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600" spc="-1" strike="noStrike">
                <a:solidFill>
                  <a:srgbClr val="2f5597"/>
                </a:solidFill>
                <a:latin typeface="Century Gothic"/>
                <a:ea typeface="Aharoni"/>
              </a:rPr>
              <a:t>Dirección Nacional de Artesanías, Micro, Pequeñas y Medianas Empresas (DINAPYM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4 CuadroTexto"/>
          <p:cNvSpPr/>
          <p:nvPr/>
        </p:nvSpPr>
        <p:spPr>
          <a:xfrm>
            <a:off x="7760160" y="382680"/>
            <a:ext cx="2235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3200" spc="-1" strike="noStrike">
                <a:solidFill>
                  <a:srgbClr val="0070c0"/>
                </a:solidFill>
                <a:latin typeface="Arial"/>
              </a:rPr>
              <a:t>Benefic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6 Rectángulo"/>
          <p:cNvSpPr/>
          <p:nvPr/>
        </p:nvSpPr>
        <p:spPr>
          <a:xfrm>
            <a:off x="1528920" y="1492200"/>
            <a:ext cx="854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800" spc="-1" strike="noStrike">
                <a:solidFill>
                  <a:srgbClr val="000000"/>
                </a:solidFill>
                <a:latin typeface="Arial"/>
              </a:rPr>
              <a:t>El Programa PIADE está orientado a la mejora de la competitividad de las micro, pequeñas y medianas empresas mediante la profesionalización de la gestión, facilitando la contratación de servicios de desarrollo empresari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3182760" y="2676600"/>
          <a:ext cx="4418280" cy="2536920"/>
        </p:xfrm>
        <a:graphic>
          <a:graphicData uri="http://schemas.openxmlformats.org/drawingml/2006/table">
            <a:tbl>
              <a:tblPr/>
              <a:tblGrid>
                <a:gridCol w="2438640"/>
                <a:gridCol w="1979640"/>
              </a:tblGrid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49320"/>
                          <a:tab algn="l" pos="1898640"/>
                          <a:tab algn="l" pos="2847960"/>
                          <a:tab algn="l" pos="3797280"/>
                          <a:tab algn="l" pos="4746600"/>
                          <a:tab algn="l" pos="5695920"/>
                          <a:tab algn="l" pos="6645240"/>
                          <a:tab algn="l" pos="7594560"/>
                          <a:tab algn="l" pos="8543880"/>
                          <a:tab algn="l" pos="9493200"/>
                          <a:tab algn="l" pos="1044252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amaño de Empres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49320"/>
                          <a:tab algn="l" pos="1898640"/>
                          <a:tab algn="l" pos="2847960"/>
                          <a:tab algn="l" pos="3797280"/>
                          <a:tab algn="l" pos="4746600"/>
                          <a:tab algn="l" pos="5695920"/>
                          <a:tab algn="l" pos="6645240"/>
                          <a:tab algn="l" pos="7594560"/>
                          <a:tab algn="l" pos="8543880"/>
                          <a:tab algn="l" pos="9493200"/>
                          <a:tab algn="l" pos="1044252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ubsid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49320"/>
                          <a:tab algn="l" pos="1898640"/>
                          <a:tab algn="l" pos="2847960"/>
                          <a:tab algn="l" pos="3797280"/>
                          <a:tab algn="l" pos="4746600"/>
                          <a:tab algn="l" pos="5695920"/>
                          <a:tab algn="l" pos="6645240"/>
                          <a:tab algn="l" pos="7594560"/>
                          <a:tab algn="l" pos="8543880"/>
                          <a:tab algn="l" pos="9493200"/>
                          <a:tab algn="l" pos="1044252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c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49320"/>
                          <a:tab algn="l" pos="1898640"/>
                          <a:tab algn="l" pos="2847960"/>
                          <a:tab algn="l" pos="3797280"/>
                          <a:tab algn="l" pos="4746600"/>
                          <a:tab algn="l" pos="5695920"/>
                          <a:tab algn="l" pos="6645240"/>
                          <a:tab algn="l" pos="7594560"/>
                          <a:tab algn="l" pos="8543880"/>
                          <a:tab algn="l" pos="9493200"/>
                          <a:tab algn="l" pos="1044252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0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49320"/>
                          <a:tab algn="l" pos="1898640"/>
                          <a:tab algn="l" pos="2847960"/>
                          <a:tab algn="l" pos="3797280"/>
                          <a:tab algn="l" pos="4746600"/>
                          <a:tab algn="l" pos="5695920"/>
                          <a:tab algn="l" pos="6645240"/>
                          <a:tab algn="l" pos="7594560"/>
                          <a:tab algn="l" pos="8543880"/>
                          <a:tab algn="l" pos="9493200"/>
                          <a:tab algn="l" pos="1044252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queñ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49320"/>
                          <a:tab algn="l" pos="1898640"/>
                          <a:tab algn="l" pos="2847960"/>
                          <a:tab algn="l" pos="3797280"/>
                          <a:tab algn="l" pos="4746600"/>
                          <a:tab algn="l" pos="5695920"/>
                          <a:tab algn="l" pos="6645240"/>
                          <a:tab algn="l" pos="7594560"/>
                          <a:tab algn="l" pos="8543880"/>
                          <a:tab algn="l" pos="9493200"/>
                          <a:tab algn="l" pos="1044252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51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49320"/>
                          <a:tab algn="l" pos="1898640"/>
                          <a:tab algn="l" pos="2847960"/>
                          <a:tab algn="l" pos="3797280"/>
                          <a:tab algn="l" pos="4746600"/>
                          <a:tab algn="l" pos="5695920"/>
                          <a:tab algn="l" pos="6645240"/>
                          <a:tab algn="l" pos="7594560"/>
                          <a:tab algn="l" pos="8543880"/>
                          <a:tab algn="l" pos="9493200"/>
                          <a:tab algn="l" pos="1044252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dia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49320"/>
                          <a:tab algn="l" pos="1898640"/>
                          <a:tab algn="l" pos="2847960"/>
                          <a:tab algn="l" pos="3797280"/>
                          <a:tab algn="l" pos="4746600"/>
                          <a:tab algn="l" pos="5695920"/>
                          <a:tab algn="l" pos="6645240"/>
                          <a:tab algn="l" pos="7594560"/>
                          <a:tab algn="l" pos="8543880"/>
                          <a:tab algn="l" pos="9493200"/>
                          <a:tab algn="l" pos="1044252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49320"/>
                          <a:tab algn="l" pos="1898640"/>
                          <a:tab algn="l" pos="2847960"/>
                          <a:tab algn="l" pos="3797280"/>
                          <a:tab algn="l" pos="4746600"/>
                          <a:tab algn="l" pos="5695920"/>
                          <a:tab algn="l" pos="6645240"/>
                          <a:tab algn="l" pos="7594560"/>
                          <a:tab algn="l" pos="8543880"/>
                          <a:tab algn="l" pos="9493200"/>
                          <a:tab algn="l" pos="1044252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erci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49320"/>
                          <a:tab algn="l" pos="1898640"/>
                          <a:tab algn="l" pos="2847960"/>
                          <a:tab algn="l" pos="3797280"/>
                          <a:tab algn="l" pos="4746600"/>
                          <a:tab algn="l" pos="5695920"/>
                          <a:tab algn="l" pos="6645240"/>
                          <a:tab algn="l" pos="7594560"/>
                          <a:tab algn="l" pos="8543880"/>
                          <a:tab algn="l" pos="9493200"/>
                          <a:tab algn="l" pos="1044252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</a:tbl>
          </a:graphicData>
        </a:graphic>
      </p:graphicFrame>
      <p:sp>
        <p:nvSpPr>
          <p:cNvPr id="116" name="7 CuadroTexto"/>
          <p:cNvSpPr/>
          <p:nvPr/>
        </p:nvSpPr>
        <p:spPr>
          <a:xfrm>
            <a:off x="3357000" y="5622840"/>
            <a:ext cx="410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2000" spc="-1" strike="noStrike">
                <a:solidFill>
                  <a:srgbClr val="ff3300"/>
                </a:solidFill>
                <a:latin typeface="Arial"/>
              </a:rPr>
              <a:t>TOPE DEL SUBSIDIO $ 158.160.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27" descr="logo pie correo-01_350"/>
          <p:cNvPicPr/>
          <p:nvPr/>
        </p:nvPicPr>
        <p:blipFill>
          <a:blip r:embed="rId1"/>
          <a:stretch/>
        </p:blipFill>
        <p:spPr>
          <a:xfrm>
            <a:off x="0" y="0"/>
            <a:ext cx="2562120" cy="8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CuadroTexto 8"/>
          <p:cNvSpPr/>
          <p:nvPr/>
        </p:nvSpPr>
        <p:spPr>
          <a:xfrm>
            <a:off x="352440" y="6262560"/>
            <a:ext cx="5254560" cy="5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600" spc="-1" strike="noStrike">
                <a:solidFill>
                  <a:srgbClr val="2f5597"/>
                </a:solidFill>
                <a:latin typeface="Century Gothic"/>
                <a:ea typeface="Aharoni"/>
              </a:rPr>
              <a:t>Dirección Nacional de Artesanías, Micro, Pequeñas y Medianas Empresas (DINAPYM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4 CuadroTexto"/>
          <p:cNvSpPr/>
          <p:nvPr/>
        </p:nvSpPr>
        <p:spPr>
          <a:xfrm>
            <a:off x="6268680" y="587520"/>
            <a:ext cx="392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3200" spc="-1" strike="noStrike">
                <a:solidFill>
                  <a:srgbClr val="2e75b6"/>
                </a:solidFill>
                <a:latin typeface="Arial"/>
              </a:rPr>
              <a:t>Etapas del Proce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2 Marcador de contenido" descr=""/>
          <p:cNvPicPr/>
          <p:nvPr/>
        </p:nvPicPr>
        <p:blipFill>
          <a:blip r:embed="rId1"/>
          <a:stretch/>
        </p:blipFill>
        <p:spPr>
          <a:xfrm>
            <a:off x="1285920" y="1347840"/>
            <a:ext cx="8089920" cy="47847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6" descr="logo pie correo-01_350"/>
          <p:cNvPicPr/>
          <p:nvPr/>
        </p:nvPicPr>
        <p:blipFill>
          <a:blip r:embed="rId2"/>
          <a:stretch/>
        </p:blipFill>
        <p:spPr>
          <a:xfrm>
            <a:off x="0" y="0"/>
            <a:ext cx="2562120" cy="866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CuadroTexto 8"/>
          <p:cNvSpPr/>
          <p:nvPr/>
        </p:nvSpPr>
        <p:spPr>
          <a:xfrm>
            <a:off x="352440" y="6262560"/>
            <a:ext cx="5254560" cy="5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600" spc="-1" strike="noStrike">
                <a:solidFill>
                  <a:srgbClr val="2f5597"/>
                </a:solidFill>
                <a:latin typeface="Century Gothic"/>
                <a:ea typeface="Aharoni"/>
              </a:rPr>
              <a:t>Dirección Nacional de Artesanías, Micro, Pequeñas y Medianas Empresas (DINAPYM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4 CuadroTexto"/>
          <p:cNvSpPr/>
          <p:nvPr/>
        </p:nvSpPr>
        <p:spPr>
          <a:xfrm>
            <a:off x="6264720" y="587520"/>
            <a:ext cx="343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3200" spc="-1" strike="noStrike">
                <a:solidFill>
                  <a:srgbClr val="2e75b6"/>
                </a:solidFill>
                <a:latin typeface="Arial"/>
              </a:rPr>
              <a:t>Otros Benefic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2 Marcador de contenido"/>
          <p:cNvSpPr/>
          <p:nvPr/>
        </p:nvSpPr>
        <p:spPr>
          <a:xfrm>
            <a:off x="1327320" y="1379520"/>
            <a:ext cx="8043840" cy="41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1f4e79"/>
                </a:solidFill>
                <a:latin typeface="Arial"/>
              </a:rPr>
              <a:t>Programa de Compras Estat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800" spc="-1" strike="noStrike">
                <a:solidFill>
                  <a:srgbClr val="1f4e79"/>
                </a:solidFill>
                <a:latin typeface="Arial"/>
              </a:rPr>
              <a:t>Dirigido a empresas que participan en licitaciones pública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https://www.comprasestatales.gub.uy/ManualesDeUsuarios/manual-procedimiento-compras/ProgramadeContratacionPublicapar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800" spc="-1" strike="noStrike">
                <a:solidFill>
                  <a:srgbClr val="000000"/>
                </a:solidFill>
                <a:latin typeface="Arial"/>
              </a:rPr>
              <a:t>Preferencia de prec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800" spc="-1" strike="noStrike">
                <a:solidFill>
                  <a:srgbClr val="000000"/>
                </a:solidFill>
                <a:latin typeface="Arial"/>
              </a:rPr>
              <a:t>Reserva de mercado para mipy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800" spc="-1" strike="noStrike">
                <a:solidFill>
                  <a:srgbClr val="000000"/>
                </a:solidFill>
                <a:latin typeface="Arial"/>
              </a:rPr>
              <a:t>Subprograma para la mejora de la gestión de las compras públ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6" descr="logo pie correo-01_350"/>
          <p:cNvPicPr/>
          <p:nvPr/>
        </p:nvPicPr>
        <p:blipFill>
          <a:blip r:embed="rId1"/>
          <a:stretch/>
        </p:blipFill>
        <p:spPr>
          <a:xfrm>
            <a:off x="0" y="0"/>
            <a:ext cx="2562120" cy="866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6T21:17:39Z</dcterms:created>
  <dc:creator>Manuel Sanchez</dc:creator>
  <dc:description/>
  <dc:language>en-US</dc:language>
  <cp:lastModifiedBy>aboschiero</cp:lastModifiedBy>
  <cp:lastPrinted>2016-04-05T17:48:47Z</cp:lastPrinted>
  <dcterms:modified xsi:type="dcterms:W3CDTF">2020-07-01T14:38:43Z</dcterms:modified>
  <cp:revision>169</cp:revision>
  <dc:subject/>
  <dc:title>Presentación de PowerPoint</dc:title>
</cp:coreProperties>
</file>